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56E-C095-4B2C-AA44-C9ACD398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5E1-3F66-4F0E-8F4E-D508B276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5F5-4265-40DC-8AB8-0B77109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8E1-7902-4562-95B4-1FFF72CE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852-8600-4B11-AC7A-D169491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D8F-B7F7-47B6-A1E6-A2EA4A8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F4A-AA4B-4735-A9AE-67693B3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DA5-4CEA-4D84-A614-99FD4F7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D63-681B-4275-8FDD-6AFE267C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833-102C-473C-B1F1-F8CDB1CA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5F7-904A-4DFC-93A0-F4670FB5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057-C17B-4680-BE31-B16432B9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FDB-BAC9-4184-B4EC-52D4FFFD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bels.uoregon.edu/measures/" TargetMode="External"/><Relationship Id="rId2" Type="http://schemas.openxmlformats.org/officeDocument/2006/relationships/hyperlink" Target="https://dibels.uoregon.edu/measures/" TargetMode="External"/><Relationship Id="rId3" Type="http://schemas.openxmlformats.org/officeDocument/2006/relationships/hyperlink" Target="https://dibels.uoregon.edu/measur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BELS Manuals &amp;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and 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onitoring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DIBELS Account online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bels.uoregon.edu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measur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0" descr="dibels download 1.gif"/>
          <p:cNvPicPr/>
          <p:nvPr/>
        </p:nvPicPr>
        <p:blipFill>
          <a:blip r:embed="rId4"/>
          <a:stretch/>
        </p:blipFill>
        <p:spPr>
          <a:xfrm>
            <a:off x="609480" y="1523880"/>
            <a:ext cx="8382240" cy="509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244800">
            <a:off x="4114800" y="411444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857240"/>
            <a:ext cx="6933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1400"/>
            <a:ext cx="7620120" cy="681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60660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an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Benchmark and Progress Monitoring Material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Revised (Jun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95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384800">
            <a:off x="188640" y="5144760"/>
            <a:ext cx="83808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Booklet Is a Separate File Which Can Be Sa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1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6:41:37Z</dcterms:created>
  <dc:creator>office</dc:creator>
  <dc:description/>
  <dc:language>en-US</dc:language>
  <cp:lastModifiedBy>office</cp:lastModifiedBy>
  <dcterms:modified xsi:type="dcterms:W3CDTF">2010-08-13T16:58:22Z</dcterms:modified>
  <cp:revision>2</cp:revision>
  <dc:subject/>
  <dc:title>Slide 1</dc:title>
</cp:coreProperties>
</file>